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C13-CDC9-4541-8848-7347E662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4D2-770F-448B-BADE-38D5C940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8DA-E192-473E-A0F4-0862D7AB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C79-4ECA-46B4-A7A5-D32070BC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108-8E8F-4566-9434-2219CEC4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20F-0199-4BE7-9F43-56B3C64E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D71-AF67-475E-B26B-86446910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244-6294-443E-A605-D1FAA871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BE7-CB08-4283-8CB4-26487089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E0C-136F-401B-AB9A-A4ECDEC7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FF1-F1E1-476F-9386-BBB787E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111-D26A-4523-B48F-12A650B0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3699-C7BC-4D3A-87C0-1D296F872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82600" y="174600"/>
            <a:ext cx="4097160" cy="3071880"/>
          </a:xfrm>
          <a:prstGeom prst="rect">
            <a:avLst/>
          </a:prstGeom>
          <a:ln w="144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58840" y="3505320"/>
            <a:ext cx="4095720" cy="3071520"/>
          </a:xfrm>
          <a:prstGeom prst="rect">
            <a:avLst/>
          </a:prstGeom>
          <a:ln w="144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4724280" y="152280"/>
            <a:ext cx="4095720" cy="3071880"/>
          </a:xfrm>
          <a:prstGeom prst="rect">
            <a:avLst/>
          </a:prstGeom>
          <a:ln w="144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4095720" cy="3071520"/>
          </a:xfrm>
          <a:prstGeom prst="rect">
            <a:avLst/>
          </a:prstGeom>
          <a:ln w="144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9:51:02Z</dcterms:created>
  <dc:creator>fgn</dc:creator>
  <dc:description/>
  <dc:language>en-US</dc:language>
  <cp:lastModifiedBy>fgn</cp:lastModifiedBy>
  <dcterms:modified xsi:type="dcterms:W3CDTF">2012-12-28T19:12:55Z</dcterms:modified>
  <cp:revision>4</cp:revision>
  <dc:subject/>
  <dc:title>PowerPoint Presentation</dc:title>
</cp:coreProperties>
</file>